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9265-DFEA-4C81-99C1-F2CDE878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35BD-C86D-4BD7-A093-9E796644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B8E5-9F6D-4797-8C39-9390F914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54A1-93FC-47CD-B549-A4BB6EF7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B373-F6A4-4205-872E-43E5D572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34ED-5233-4188-9C74-48D86361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84F0-0F2E-4EAD-BF4F-99EEB250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CA34-B30D-4B66-AD92-69D64731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104E-8CC0-4D2C-A443-361179A0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55AF-F27F-408A-B368-EEC937C9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2BF8-7EB9-4A6D-BDF0-DDC0BA07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098D-EC67-4621-801D-9A734C73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EB47-C7D7-4636-85B8-C2EAD252C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13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925120" cy="687096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048120" y="304920"/>
            <a:ext cx="579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rte"/>
              </a:rPr>
              <a:t>The Nine Crus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6:10:19Z</dcterms:created>
  <dc:creator>Wingar95P</dc:creator>
  <dc:description/>
  <dc:language>en-US</dc:language>
  <cp:lastModifiedBy>Wingar95P</cp:lastModifiedBy>
  <dcterms:modified xsi:type="dcterms:W3CDTF">2010-02-12T14:47:14Z</dcterms:modified>
  <cp:revision>8</cp:revision>
  <dc:subject/>
  <dc:title>Slide 1</dc:title>
</cp:coreProperties>
</file>